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9F94-92E0-4E86-BC9C-673A0D8A8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19B4-3E78-4190-994E-BE78F84F1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498054-D196-4740-870E-E1160FD3D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A21BA5-939A-439C-ADFA-9E4772976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09946D-C97B-4B18-AD38-55FC96A14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51A385-227F-4525-B946-C1999B2B3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DA6101-0CAA-4002-84EA-42BCC24C1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0B2A16-A636-4926-8662-8795B27AD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EB0A4A-5E91-4556-AE45-4095765AB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A52460-ABD4-4AD4-8479-6AD344A53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2DEA2B-21C1-474D-88B6-68758D3BA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B1869D-F21F-47D4-9C4B-7198DB401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D09B-623E-446B-9245-4231182FC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6C5C10-1BEE-4187-B49C-87456725C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143615-E599-4927-BA95-6D75D4EAC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210783-A6C2-4AFA-B890-0F4D5440F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249E4D-145B-4CBA-996B-54FF65E23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CE3A1C-B005-4DBF-9807-9E5019A5D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4D01C3-C211-4FEB-94AC-319136A6E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545665-E71E-4502-AF47-355BB0B4F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3C0BB2-1F9A-4A21-976E-8C5EC5499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8A8582-42D1-4305-8C0D-7AD35969D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5FB585-468D-4CA1-BFA2-1C23F89E1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5B5E-556A-4589-862C-1375578AE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B16934-62E4-42AA-A4B5-D2AD1C760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BE9CCD-5957-4CE6-A60F-D232A9CCF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D9BD31-6D89-4F00-BA80-01ABC78E7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349E9D-0472-4A2F-A5DE-F22F79AD1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EE03F7-A2D3-4685-BD3F-1EC8B692F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1081CE-E292-43AF-BEB1-62A668586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36761F-E761-42FF-A6DD-F970F0A98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6AC2EF-AEB2-45A8-93AB-D17983275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3C626F-45C0-41D5-992E-54D081345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1E8249-1547-4E2A-A362-AF2D1522A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BDF95-972C-4389-A3D4-FDAAC28D9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62D5F8-EDD6-49FF-AAF6-6AC120B3D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251E35-E6BE-462F-A94D-AF52E34B4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F122CD-05E7-4CCA-98EA-3BA6B95B3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89C219-4A74-4434-8B6B-FD0342B5A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352A5C-956A-4073-AC94-5B8D509D0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7C8FB8-4B6D-4628-B9FE-8383698EE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D40D6C-32A3-433B-8CD4-DEF123029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56071F-7129-47DC-AB28-558AE1C13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CAC976-A594-4501-AF20-811889F3D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92EF73-5B4D-4D9D-95E1-A89C1780B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A2F60-5976-445F-B95B-CB739CE22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998AEB-2ACB-4A7C-9991-DE78F8642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5673BC-BDF5-4C08-9464-B60429EA1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DD0E65-3287-4263-807E-09DC5622C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99C2B6-88C7-466A-9416-BB4269AA2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C46AAC-3B3B-40C7-9FBA-8BB642F27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C1EAE8-C487-4EA3-B4D5-70E234680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AF3A3C-0A79-4BAD-A41D-A18ABA475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CF6FDE-1FA7-4454-889B-75D5B049E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5C960D-3B87-4F7A-9F13-D7F914123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C0FBA6-72CA-4DE5-B28E-E7AA4EE8C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A789C-ED7E-4C9B-9886-4C6357C94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5A9601-1F23-4F7C-8231-637F25AA3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D167A1-627E-41C2-8835-3369D1533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540AF6-D799-434B-A870-017379613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74D111-9116-4F68-B697-211556366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9FE243-A480-4975-9086-55DDC6330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7970DD-91DF-4C42-93D3-522AAC0A2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5F6B93-4DED-4D2F-8AEA-11B69B367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E598569-BC58-4D2E-B99D-B7EC57E69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E6FCCE-DA77-4046-8510-FE127E6E9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3FEFD20-429D-4435-9EA6-FF695D212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0DFC1-7986-47DE-A38A-F1B524D32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27B6D0-E2E4-4750-B97E-599A94D35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A3BC8D-EF8B-4DDF-ACF1-6E2F96323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A7C7AE4-5C05-4A43-BC5C-813BBA939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65928F-6345-4B38-9735-06F82195D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726163-18F9-462F-8021-CFD00D6AA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C286D1-EDA7-4DE4-B07E-7FFAF3654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602A7C-C1AC-4B8E-916E-02D91F694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8270B8-6218-4BAA-8C81-CA4D6C6C6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850A76-597F-44F7-8CAA-EFD5DABC8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11425F8-B45C-4012-94E2-BBA60D0B4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48C85-02EA-4306-B74C-F03934BE6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0BF5F50-E77E-41E0-96B2-975CB4561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1BF3050-66E6-45A3-9569-D62203212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64F5AD7-DA29-462F-BF00-0BC4AE9ED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C694E9C-971D-4EFA-9759-EA495A1FD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B845B46-9040-4175-9B09-CFE564706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3376BC9-A95C-4008-85E2-F573D9618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CBCDF5D-3571-40D7-83FD-49558A27F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94B4745-494F-42CE-9838-044C19EC9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BE3BACD-AB95-477D-99D7-8DB39EAF8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66E379C-A57E-4FB0-ACDD-4151A1461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839D1-6D1A-41BE-87C8-6CB9665A7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2727176-FAC6-42B6-9FB9-3587CBC3B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F2D241A-87AC-49AC-81A5-9F8DEA20B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FF0BFDA-5799-4E12-A4AE-B630C86F2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6B31927-FF99-4FCA-BECD-A41726E59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4958623-E62E-4A74-89D4-EF0B92D96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68C3241-09B2-4A8B-88B9-B231F18B0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94F7892-D2DA-4810-BDEE-F78F28AB9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91C4D94-A111-4026-95B4-D2C286B20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639ED0D-8907-46BF-A37B-735CEADCD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271D354-588F-4DA4-96AA-9EB726E42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B49DD-D0CA-48B2-8E06-65C3DBF61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CF4CC03-FBA5-4AFC-B865-E68DA94BD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2590058-50EE-47D1-A3D2-313854C79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7F33949-E4BF-4DF2-89D6-79AE72EF1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7B9FC74-83E5-4BA4-9AC5-F258C6346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B14DA0A-7E7A-4415-8EB5-0B3DB5BB3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757CF6C-0E2C-4BA4-A44E-61EFE005E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64ACED1-8E4E-420C-9234-D53EA053F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515E82A-B89D-4D44-9AF2-2B9CCABDF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7A53598-F113-48BF-81A6-CA765EE72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8D95F8C-7E37-467D-9E99-BDB5B5C19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8F31-4367-4D00-8FF8-F44B75971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B19AC-1BCE-46F3-BCB3-CEE135E07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A623837-2321-4240-91D2-02BCAED38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0A305A8-EE1F-499B-B8CB-6D6EC1D44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3933CFD-AE24-445A-ACCF-C1744ED0F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369C38E-A4B3-45B0-ADF0-F5C5CFD52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8E9BD46-D6D9-4E28-91F4-CC1E2F558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676C217-CC18-4383-BBA9-7AF812B7A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C11FF89-5D9D-40F1-81FF-566FCD538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2612040-58EE-4AAF-B206-B1645A552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B45FFBC-FE01-41BF-AC62-8ABA45ED9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0106615-9D6B-4509-BF34-D655396A2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0A9B8-755B-4774-89A0-75DE229D3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880902A-7C95-435D-8BED-D278985DB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D917BFD-0A19-4F83-B7C2-EC480C1C3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133F487-19BA-4A97-B12A-D12D5970E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ED87A76-EB03-4E2D-B208-191C21A2E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1E557F5-F728-433D-B914-EAA5D7ECE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D9EBC74-9A11-414A-87A1-E8CFF3FF1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54D5CC8-2A9D-4160-BA7E-B0DCE575D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7A9825D-B6D4-40F0-A31B-7EE045596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1D99602-2601-4FBF-ABC1-F8DB60BB3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E823F0E-3DA5-4893-A17B-442F16CB9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28F37-BAC1-453E-A944-0F49E0072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5F93B39-FB63-44F8-827B-3D24B2B5C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AC32633-47DB-4CE8-8658-97D103ADC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5A9CB19-F771-4625-A50A-124EEB8F0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09A23A8-10D2-4B4C-9D1F-24BC1062B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94C0745-B060-4B09-AB24-DD93E12DE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0B77933-0DB3-4718-8540-52165AFF2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2E6993C-C31C-490F-9DC4-F4E2FE106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476A1FB-CBE4-49CF-8566-02B9E680F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C1131FD-14B9-4550-99D1-F7A36DD2D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3DD55CB-DA77-4F48-A144-CE7EAAA1D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EC381-1E80-454E-8ECA-FA9AD3924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A23DFFA-1166-41B8-9BFC-3E708F50B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EF696B3-608A-46DA-9917-00A643E80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0B4A9F0-6307-4FBF-82EE-242CD61A3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CA3BB2E-7315-4575-9A78-016CA9985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97F1F3D-54A3-438F-9C1C-5CB14EAF7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3E0E601-7693-4456-9966-18CE31552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16A5C17-598D-4EF6-9920-C94F077D5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59FF0D6-440A-444C-A68F-8DF2B72FE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63C5575-8FA0-48C1-96F4-C89E3656A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B281716-FC07-4294-88C6-276D9C66F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44C9E-22F5-4233-8CC2-47AE839DD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468F2FD-CB1F-4C43-98A3-430B673CE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17A580C-8F8F-4DBA-A79D-87CB5F2EE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C9F85D3-02FF-4FA1-ABDE-50A295E5D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AEB7C10-10C4-402E-A1D3-42C414A9E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451DFF3-CE7E-4F8C-8988-ABDB4FD6E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2579EA5-10B6-4ECF-A7FC-61DA34841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F1AF825-18CE-49D4-B3EC-090F56ACC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667EFFE-C4D1-4CAB-B0B5-670D203F9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8395896-405B-4B84-A697-63A67FB79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25447BF-DD8F-4136-A9FF-5036FA3E8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3FF1CD-39BD-47F9-93BA-360E05225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0D0E737-2CC5-47F9-B9D6-D94E8F0C5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89ECA8B-B78E-425E-96A7-B82CBDBAC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19B1D3B-17A3-4ACB-AE63-07362C860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462FCA-C775-4FCD-8D71-CE7096F47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65F9A3-F7F2-4F6C-921A-B56FE263C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7E18D6-F06E-4B92-868F-45FD16933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5C4495-0F1D-4ADE-A4C7-439A951DE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81D0-73B7-46FE-9E93-348A1A787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DD33E7-14A4-430B-B7A4-9E9129DC5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61B31F-83DC-4EA2-B05A-85510912B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A73C06-D6FA-4E2F-B282-D26DBF158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067D77-D0E1-4B50-ABC5-59537AF15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FE1321-20A5-4877-9147-053C5A2A2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BE5158-854F-47C8-90BA-71C25053F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84646E-8F3B-4370-99F4-A6905835E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B8EB34-F855-4AB0-A758-8DB9893AD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D58D1D-89BE-459F-821E-58845A728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A33441-8356-43A7-A6A4-8919C0924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6CCB-9748-4D97-9C29-85F1EEC64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FBBAE5-5EB9-4F6C-8E96-69EB8727B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4ADE73-05D2-460B-AF83-8F02DB93E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EA22F2-95EE-465D-9D15-70A8A3E10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953FDF-29E1-4AD6-BCE1-1CB0753AA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C1D504-DBF1-44FE-A8BA-C5D1975AE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1E1BAE-03D8-43A9-ABF6-8A9CDB3FD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95E18C-5C9D-4DEB-86C6-3B44FCC09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E7759B-CA9A-4869-B8AE-BA357401A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181C5E-ABBA-4E1D-8A8A-93287FBFE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DF25E9-1315-46AA-807E-87A40ADA2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443F-083A-464D-875C-530B91E92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84E536-FFE4-4C57-BC56-BDE3ACCC4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B0007E-2B00-4B39-838E-F0AACA413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6A31C1-03A6-499D-9B08-BF3A4327C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2405D4-2B2F-4D12-B93E-E4E8AE245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48A512-73B2-4A35-B990-515E4A08C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D0A402-0856-4263-93DA-C17F60EC4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D5B5D2-6BCF-4961-AD9E-8C8DE2748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6A03C9-B885-4E54-86BE-E6A050BE6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49CB09-C7D2-4326-A873-853CF6A17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5EF03F-3482-4EA9-9357-EFCC9F011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1286-C58D-4708-8325-23535E6D4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40A820-563D-49F2-8458-D9C7EAC56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0D68A6-F42C-4C3E-8748-5667AB4B9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8BB684-4223-4C7C-960E-9389BA7AD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2F3B1F-CCDE-49BC-9920-E778B0437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EA48F4-7549-4463-B747-738D734CA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893299-E572-4CCA-91EF-7304F2F51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A38A96-F516-4BF3-A2BF-5082818E3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1E3554-EB47-4EB2-971B-23A3681DA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6F494B-BACA-4259-B7FE-5F3A2A39C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25527A-01C5-42B0-B6A2-493C689E6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054B-4116-43AF-BE32-A5E0FE9B0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55D731-61DF-42F7-8726-F05085A05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C02FBD-D2C9-4E82-9843-53F710335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7C7B24-9AFD-4E40-B058-A0363EDFF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4313C0-8858-4908-BADC-D25F1199C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98D04B-1E40-4C55-A93D-E200ED857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A50D33-3EC7-4CFB-913B-4011AC4BA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8AE366-02D4-4931-A2AB-425B23C31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569DA2-9432-4137-8101-19B3607AF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9981E4-3D1E-4EF8-900D-27724244F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76B715-742C-4B2B-AB1E-6560CD08D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96AC-4940-43E4-AEB2-4A0FE1DB0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7A65E8-5704-483C-8AFA-B08357C41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D2DF0F-6A20-4223-85B1-5F63E96C5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D89181-07A7-4B2E-8BB6-F34FD8AC6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EE15A4-0153-4554-A1B5-ACAFDB1FB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18A64C-6BDC-42DC-9EEB-047888A30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1CDAB5-3CC1-4166-90E1-CDC519993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6F223B-7BED-4E9E-A033-F3A6E956D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43AE7F-A0F7-4BA9-A58B-74FFCF069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0C0C39-6476-4EA4-8646-7663D8401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D1933D-A910-4583-9929-DE61621FC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1A48-2926-440A-B7C3-646789FE3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E3597F-D121-4DD7-BB3F-307E5219D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B5F4D3-3956-4DD4-BEA0-48AFC8C39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891FCC-EC49-4853-87BD-592A7FACB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1B801C-4517-4EC8-B06E-BD8CBD8BF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E738F1-0675-4FCD-8025-13F593869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831C8B-4A6D-4BB6-B8FD-4A9D4BBD8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736C7B-0A06-4505-BFBA-11739272D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76CC99-B961-4890-A387-2F7586B84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2937F8-B97E-42D8-AEDA-A9008EF99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FAF94C-AF73-43E7-9C7E-4B27B6BA4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678FF-6C77-4E13-999D-781DAA94E8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BCDE2-473E-458C-872D-D6C94F26AFE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34557-494F-4331-AB84-31957685637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26072-9193-48CE-9B09-03C6BFFBE79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D0E09-6DBA-4970-9CC7-E679C4D05D9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5F1F5-7A53-4691-AEC0-5F5574CD269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6B4B5-4478-4CB1-968F-6858805E609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650AA-D9F8-47D1-B573-32B578893D9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E65D9-1D7F-44F1-9AA2-4598A3E249E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403B0-E3FA-41C4-96F1-E13977FCE2D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60EF8-DEF6-4F63-8ED1-01813BA2923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A77D0-5D7F-4450-AF0D-C96967BC9D3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0C013-4103-49EE-B313-414D80896AD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30347-6B86-4FDE-B9DA-67A5982F7A4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A7846-A4CB-4DBA-A6F7-710BFBAE37C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D6E28-138D-4676-A089-CF269EB274E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33790-681D-4F0E-81A2-05CF667722E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07B25-809B-4277-A4C6-4683D44B14F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2190D-B3A5-4692-9342-16E6AA247A8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7F4A7-890B-43BD-AB4F-1AED4443E3D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6BAE4-24EB-4083-9567-4250C420AF7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570D5-6E7E-430D-B8D6-D445B93266E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D24C6-9DC5-443D-8E56-97B4F3D20CB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30A82-0E3B-478D-B3EB-405672DBA97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732F1-08F2-42DC-BFA1-FCDE261E1AB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6E698-462D-40E6-A390-16D1B228107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07A71-A2DF-423D-8529-CDFB36B7859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1602B-B3BB-4F0A-AA35-1367589D57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636D3-C13E-4BDA-99CE-73CB7A2071C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0C54B-CF89-4886-A5F4-63591D9FB8C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DD038-0695-4A62-B090-C4F6759B4DA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B2816-DBC9-4D14-A046-1A40B1DF249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2EAE9-745B-434F-8042-FBF81F10A90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BE0F2-BEE2-4D07-AD8C-C82DBE804C1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E2E10-6156-4750-A3AC-A30C803C42F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DCD5E-0050-4EE3-B573-351BD9F9F11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205BD-7AAD-44A1-B1A8-2EA95B6AA69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75D32-A19F-4C97-A763-C0B574BC03D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7C2E5-0033-4E3C-98A8-B94E3FE0D51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344E8-7871-485B-9EA3-C9D4024B2AB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5.png"/><Relationship Id="rId11" Type="http://schemas.openxmlformats.org/officeDocument/2006/relationships/image" Target="../media/image15.png"/><Relationship Id="rId1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4" name="图片 1" descr=""/>
          <p:cNvPicPr/>
          <p:nvPr/>
        </p:nvPicPr>
        <p:blipFill>
          <a:blip r:embed="rId1"/>
          <a:stretch/>
        </p:blipFill>
        <p:spPr>
          <a:xfrm>
            <a:off x="2228760" y="2833560"/>
            <a:ext cx="4686480" cy="11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7" name="Picture 1" descr=""/>
          <p:cNvPicPr/>
          <p:nvPr/>
        </p:nvPicPr>
        <p:blipFill>
          <a:blip r:embed="rId1"/>
          <a:stretch/>
        </p:blipFill>
        <p:spPr>
          <a:xfrm>
            <a:off x="1979640" y="81000"/>
            <a:ext cx="388800" cy="304920"/>
          </a:xfrm>
          <a:prstGeom prst="rect">
            <a:avLst/>
          </a:prstGeom>
          <a:ln w="0">
            <a:noFill/>
          </a:ln>
        </p:spPr>
      </p:pic>
      <p:pic>
        <p:nvPicPr>
          <p:cNvPr id="1028" name="图片 1" descr=""/>
          <p:cNvPicPr/>
          <p:nvPr/>
        </p:nvPicPr>
        <p:blipFill>
          <a:blip r:embed="rId2"/>
          <a:stretch/>
        </p:blipFill>
        <p:spPr>
          <a:xfrm>
            <a:off x="57240" y="1395360"/>
            <a:ext cx="9029520" cy="1671840"/>
          </a:xfrm>
          <a:prstGeom prst="rect">
            <a:avLst/>
          </a:prstGeom>
          <a:ln w="0">
            <a:noFill/>
          </a:ln>
        </p:spPr>
      </p:pic>
      <p:pic>
        <p:nvPicPr>
          <p:cNvPr id="1029" name="图片 2" descr=""/>
          <p:cNvPicPr/>
          <p:nvPr/>
        </p:nvPicPr>
        <p:blipFill>
          <a:blip r:embed="rId3"/>
          <a:stretch/>
        </p:blipFill>
        <p:spPr>
          <a:xfrm>
            <a:off x="155520" y="3308400"/>
            <a:ext cx="5342040" cy="209556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4"/>
          <a:stretch/>
        </p:blipFill>
        <p:spPr>
          <a:xfrm>
            <a:off x="1173240" y="270828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5"/>
          <a:stretch/>
        </p:blipFill>
        <p:spPr>
          <a:xfrm>
            <a:off x="5364000" y="270828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6"/>
          <a:stretch/>
        </p:blipFill>
        <p:spPr>
          <a:xfrm>
            <a:off x="8445600" y="270828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7"/>
          <a:stretch/>
        </p:blipFill>
        <p:spPr>
          <a:xfrm>
            <a:off x="826920" y="365904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8"/>
          <a:stretch/>
        </p:blipFill>
        <p:spPr>
          <a:xfrm>
            <a:off x="826920" y="401940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1" descr=""/>
          <p:cNvPicPr/>
          <p:nvPr/>
        </p:nvPicPr>
        <p:blipFill>
          <a:blip r:embed="rId9"/>
          <a:stretch/>
        </p:blipFill>
        <p:spPr>
          <a:xfrm>
            <a:off x="826920" y="437976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1" descr=""/>
          <p:cNvPicPr/>
          <p:nvPr/>
        </p:nvPicPr>
        <p:blipFill>
          <a:blip r:embed="rId10"/>
          <a:stretch/>
        </p:blipFill>
        <p:spPr>
          <a:xfrm>
            <a:off x="826920" y="472428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11"/>
          <a:stretch/>
        </p:blipFill>
        <p:spPr>
          <a:xfrm>
            <a:off x="826920" y="5084640"/>
            <a:ext cx="36036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0" name="图片 1" descr=""/>
          <p:cNvPicPr/>
          <p:nvPr/>
        </p:nvPicPr>
        <p:blipFill>
          <a:blip r:embed="rId1"/>
          <a:stretch/>
        </p:blipFill>
        <p:spPr>
          <a:xfrm>
            <a:off x="495360" y="1666800"/>
            <a:ext cx="8153280" cy="352440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1" descr=""/>
          <p:cNvPicPr/>
          <p:nvPr/>
        </p:nvPicPr>
        <p:blipFill>
          <a:blip r:embed="rId2"/>
          <a:stretch/>
        </p:blipFill>
        <p:spPr>
          <a:xfrm>
            <a:off x="1187280" y="2060640"/>
            <a:ext cx="432000" cy="38412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1" descr=""/>
          <p:cNvPicPr/>
          <p:nvPr/>
        </p:nvPicPr>
        <p:blipFill>
          <a:blip r:embed="rId3"/>
          <a:stretch/>
        </p:blipFill>
        <p:spPr>
          <a:xfrm>
            <a:off x="1187280" y="3068640"/>
            <a:ext cx="432000" cy="38412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1" descr=""/>
          <p:cNvPicPr/>
          <p:nvPr/>
        </p:nvPicPr>
        <p:blipFill>
          <a:blip r:embed="rId4"/>
          <a:stretch/>
        </p:blipFill>
        <p:spPr>
          <a:xfrm>
            <a:off x="1187280" y="4076640"/>
            <a:ext cx="4320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6" name="图片 1" descr=""/>
          <p:cNvPicPr/>
          <p:nvPr/>
        </p:nvPicPr>
        <p:blipFill>
          <a:blip r:embed="rId1"/>
          <a:stretch/>
        </p:blipFill>
        <p:spPr>
          <a:xfrm>
            <a:off x="509760" y="2224080"/>
            <a:ext cx="8123040" cy="240984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1" descr=""/>
          <p:cNvPicPr/>
          <p:nvPr/>
        </p:nvPicPr>
        <p:blipFill>
          <a:blip r:embed="rId2"/>
          <a:stretch/>
        </p:blipFill>
        <p:spPr>
          <a:xfrm>
            <a:off x="1187280" y="2565360"/>
            <a:ext cx="432000" cy="38412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1" descr=""/>
          <p:cNvPicPr/>
          <p:nvPr/>
        </p:nvPicPr>
        <p:blipFill>
          <a:blip r:embed="rId3"/>
          <a:stretch/>
        </p:blipFill>
        <p:spPr>
          <a:xfrm>
            <a:off x="1116000" y="328464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1" descr=""/>
          <p:cNvPicPr/>
          <p:nvPr/>
        </p:nvPicPr>
        <p:blipFill>
          <a:blip r:embed="rId4"/>
          <a:stretch/>
        </p:blipFill>
        <p:spPr>
          <a:xfrm>
            <a:off x="1187280" y="3948120"/>
            <a:ext cx="4320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8:25:38Z</dcterms:modified>
  <cp:revision>38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